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F0B4-173C-4B7E-B9BA-ACF0B655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B6E-35A2-4F20-818D-6CA63D13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31E-09ED-4914-B50C-865E661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B6D-984D-4BAF-844C-54BAEB6E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B5A1-E837-491D-AFA9-B770C32D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7374-D02C-4DAE-A272-C4B7BAFB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720-1EF5-4200-97FB-A437D8DA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2BB0-B9E5-49E7-B8CC-D4C712B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3DC6-933B-4D16-AEC5-902DA1EB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711F-FC7B-4AE1-A9F1-C0DFED35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C70-9D4C-42A1-B03F-7F45CCE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041-E12B-4545-BF7D-5FB2CAA7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09A0-5933-4590-8250-B6115018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B263-6CA0-4259-86B8-110883D7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57C2-B502-4269-BAD2-2213C4ED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21D1-7CE4-45DA-B1A6-2C959379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D6A2-5852-4D26-B79A-D0452195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272C-05A8-40C2-91A8-5953FB36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9F343-E2E2-4960-B913-AA1086BE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3C2B6-079B-4DF0-B8C0-9E31C7D7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4DA5-403A-44BB-B308-A49C766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60B3-756C-4AA6-9ABA-F146331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9AD-66AB-4B80-86A3-6F3A4030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A8289-420C-4018-825A-EBAC8E93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77A38-555B-4111-B882-ACAD90E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BCB31-42C2-41CF-8470-F42130FD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195F0-5047-40BE-B6C7-103E73DF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7A21-3C67-445C-8588-383A41D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495F-2C84-4B9D-B784-82CBBE14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4302-5041-4EC7-B026-7E8A62E5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021D-DEA8-4DE0-B445-0FFDDB50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2084-ADFA-4581-80F4-C8F310E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68E4-128C-4E43-A2A5-41B65924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880-6E04-43CA-AB6E-E6188FA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A3969-62B3-4C85-B95A-CA00F7DA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E922-67F7-4E5A-9AE8-92BB7E56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B4A0-3E68-471F-9F12-C4ACF10F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FB16-A3A3-400C-93CA-32113EB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C67DE-F981-4FC7-AD47-49F822C4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3E86-B591-4D5C-932F-0E5030D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4D5B-2828-4D0B-9807-829510AF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43D2-8709-4F7B-9EF2-FBB4FC29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B1D87-6358-439D-B5FB-F4814417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C601-C670-4A35-8F46-50F32553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99E-11D3-41D4-9E01-313EBEB6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C4A8B-1F40-43B1-8B59-6F8BCB07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FCF9C-C054-489D-8A7F-FE10E65E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A9D04-CC8F-4221-B687-307F3FB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3EBFF-4C46-446B-B929-737E5BB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3FB4-723D-43CE-8D05-C0E5BF24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3C0E9-B6A0-441A-BAA1-42F197D8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FFAA9-5634-43EC-BE22-27EF93FC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4BA2D-80DB-4E7A-84BE-7A0CEC94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1287-DD29-42BB-B2D9-EB71AB90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D567E-7905-44C0-B912-68981AA2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346-FBB4-407F-B801-4523C61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E1E3-457C-4C05-8FF8-A80D3C3F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D3AEC-AD9F-4911-BD9C-B58B6354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EE52-2DE9-4070-B2C4-6F448E3E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FB2CF-A7BF-411A-BDFA-1987CA04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5B88E-01D1-43DA-8658-8AB2C55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A6240-8174-46A9-8E76-05D836E3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DF48-A0D8-4129-9A56-3640A4DB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E6DD-DA81-46BB-B29B-17FF64F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BB78-7781-46E5-AB8E-47A16F5A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1E245-631A-46AE-AC25-C32686BA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AF1-E49F-4CA1-997F-2A53C8C5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FE9D-E340-4D92-A61F-C725F92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6D746-A5FB-43EC-BDBC-2A320070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8F39F-EC7C-4BC1-875A-BC6411CB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1184D-B8AF-44BC-ABB1-873E3A91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62812-61D0-4021-9AD0-0868006E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3B66-EC69-461B-B64D-02B90BC0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652A-AA15-441B-9FBC-91125EA9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7C31D-1296-43E5-9B62-95CFBD8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C562A-8E8E-4784-A1B8-CCCDCDA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6B344-357C-4727-BEF5-0FED8B0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C29-16C5-45FE-A997-0B8A9774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5E4A7-0D29-45D6-B7C2-6D0F244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589B-2969-494F-9237-68254867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18F5C-1382-4912-97B6-A7EDD993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D93E0-3F61-4C59-8557-E708AABD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72B7-5A8F-419D-B0F0-3339A03E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822-F441-4235-991E-2F48871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EDA0-537D-4E5A-8F35-B47A32D4E939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8CB5-0E70-4F6C-A3FF-F026B8468D2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88C-B90C-41E8-B9CE-08FF71947BB9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BF5E-595D-4088-B915-ED793B5F0D9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4C3B-0867-458A-ABF4-4622FA84C355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3709-C407-4CF4-BBE0-43F8F278886A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0967-D737-4908-A82A-3F0DEFED1EC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7FB7-57EB-4477-BB57-BD437BD7648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325C-874E-42D5-82FB-3B3BC3374D0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54E-9826-4DA6-BC0F-38935D20F124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22FF-CB25-4811-BD01-09C49CF57F00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3FFC-D526-468E-9B94-438B79CAD5C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F883-F10A-4CED-B3CF-56FD1CAA4A1E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4F43-4B94-46A7-8C4E-B53EF1CF4ED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N&#225;dor" TargetMode="External"/><Relationship Id="rId2" Type="http://schemas.openxmlformats.org/officeDocument/2006/relationships/hyperlink" Target="http://www.wikiskripta.eu/index.php/N&#225;dor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Toxick&#253;_aden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77320" cy="43210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Nádory - úvod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Y_32_INOVACE_KLN.2.12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22.1.2014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Corbel"/>
              </a:rPr>
              <a:t>Anotace: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2 zahrnuje pojmy: </a:t>
            </a:r>
            <a:r>
              <a:rPr b="1" lang="cs-CZ" sz="1600" spc="-1" strike="noStrike">
                <a:solidFill>
                  <a:srgbClr val="ffffff"/>
                </a:solidFill>
                <a:latin typeface="Arial Black"/>
              </a:rPr>
              <a:t>nádor, morfologické, funkční biologické vlastnosti nádorů, nádory benigní a maligní. Prezentace je zakončena souborem otázek z zopakování. </a:t>
            </a:r>
            <a:br>
              <a:rPr sz="2000"/>
            </a:br>
            <a:br>
              <a:rPr sz="4200"/>
            </a:br>
            <a:endParaRPr b="1" lang="en-US" sz="16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8191440" cy="13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Klasifikce nádorů: MALIGNÍ NÁDORY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Maligní = zhoubné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Invazivní růst – tj. pronikání do okolních tkání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Agresivní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Neostrá hrsnice mezi nádorem a okolí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Časté recidivy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Šíří se spojitě nebo metastázami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Často velká rychlost růstu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Častá nádorová kachexi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Buňky méně diferencované (=nepodobné původní tkáni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říklady nádorových onemocně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Soubor:Adrenal_Tumor.JPG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Nádor nadledviny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Makroskopický obraz 15 cm velkého karcinomu nadledviny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Obrázek 3" descr="File:Adrenal Tumor.JPG"/>
          <p:cNvPicPr/>
          <p:nvPr/>
        </p:nvPicPr>
        <p:blipFill>
          <a:blip r:embed="rId1"/>
          <a:stretch/>
        </p:blipFill>
        <p:spPr>
          <a:xfrm>
            <a:off x="755640" y="1844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325" name="Obrázek 5" descr="Soubor:Rhabdoid tumor.jpg"/>
          <p:cNvPicPr/>
          <p:nvPr/>
        </p:nvPicPr>
        <p:blipFill>
          <a:blip r:embed="rId2"/>
          <a:stretch/>
        </p:blipFill>
        <p:spPr>
          <a:xfrm>
            <a:off x="5724360" y="1989000"/>
            <a:ext cx="1727280" cy="1152720"/>
          </a:xfrm>
          <a:prstGeom prst="rect">
            <a:avLst/>
          </a:prstGeom>
          <a:ln w="0">
            <a:noFill/>
          </a:ln>
        </p:spPr>
      </p:pic>
      <p:sp>
        <p:nvSpPr>
          <p:cNvPr id="326" name="Obdélník 6"/>
          <p:cNvSpPr/>
          <p:nvPr/>
        </p:nvSpPr>
        <p:spPr>
          <a:xfrm>
            <a:off x="5796000" y="3284640"/>
            <a:ext cx="295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Rhabdoid_tumo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habdoidní nádor. Mikroskopický obra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Obrázek 7" descr="Soubor:Tumor Esophagus.JPG"/>
          <p:cNvPicPr/>
          <p:nvPr/>
        </p:nvPicPr>
        <p:blipFill>
          <a:blip r:embed="rId3"/>
          <a:stretch/>
        </p:blipFill>
        <p:spPr>
          <a:xfrm>
            <a:off x="755640" y="407664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328" name="Obdélník 8"/>
          <p:cNvSpPr/>
          <p:nvPr/>
        </p:nvSpPr>
        <p:spPr>
          <a:xfrm>
            <a:off x="611280" y="5657760"/>
            <a:ext cx="300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Tumor_Esophagu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dor jícnu. CT obraz s kontrastem. Axiální ř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rázek 10" descr="Soubor:Tumor Meningioma3.JPG"/>
          <p:cNvPicPr/>
          <p:nvPr/>
        </p:nvPicPr>
        <p:blipFill>
          <a:blip r:embed="rId4"/>
          <a:stretch/>
        </p:blipFill>
        <p:spPr>
          <a:xfrm>
            <a:off x="4643280" y="4149720"/>
            <a:ext cx="2521080" cy="2325600"/>
          </a:xfrm>
          <a:prstGeom prst="rect">
            <a:avLst/>
          </a:prstGeom>
          <a:ln w="0">
            <a:noFill/>
          </a:ln>
        </p:spPr>
      </p:pic>
      <p:sp>
        <p:nvSpPr>
          <p:cNvPr id="330" name="Obdélník 11"/>
          <p:cNvSpPr/>
          <p:nvPr/>
        </p:nvSpPr>
        <p:spPr>
          <a:xfrm>
            <a:off x="7380360" y="4221000"/>
            <a:ext cx="14396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ttp://www.wikiskripta.eu/index.php/Soubor:Tumor_Meningioma3.JPG Meningeom. MRI v T1 váženém obrazu s kontrastem. Sagitální ř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2" name="Zástupný symbol pro obsah 3" descr="Soubor:Lipoma 06.jpg"/>
          <p:cNvPicPr/>
          <p:nvPr/>
        </p:nvPicPr>
        <p:blipFill>
          <a:blip r:embed="rId1"/>
          <a:stretch/>
        </p:blipFill>
        <p:spPr>
          <a:xfrm>
            <a:off x="611280" y="1628640"/>
            <a:ext cx="2468520" cy="2374920"/>
          </a:xfrm>
          <a:prstGeom prst="rect">
            <a:avLst/>
          </a:prstGeom>
          <a:ln w="0">
            <a:noFill/>
          </a:ln>
        </p:spPr>
      </p:pic>
      <p:sp>
        <p:nvSpPr>
          <p:cNvPr id="333" name="Obdélník 4"/>
          <p:cNvSpPr/>
          <p:nvPr/>
        </p:nvSpPr>
        <p:spPr>
          <a:xfrm>
            <a:off x="611280" y="4221000"/>
            <a:ext cx="244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Lipoma_0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Excidovaný lipom o rozměrech 8×6×3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rázek 6" descr="Soubor:Enchondrom Femur T1 sag.png"/>
          <p:cNvPicPr/>
          <p:nvPr/>
        </p:nvPicPr>
        <p:blipFill>
          <a:blip r:embed="rId2"/>
          <a:stretch/>
        </p:blipFill>
        <p:spPr>
          <a:xfrm>
            <a:off x="5651640" y="1557360"/>
            <a:ext cx="2376360" cy="3311640"/>
          </a:xfrm>
          <a:prstGeom prst="rect">
            <a:avLst/>
          </a:prstGeom>
          <a:ln w="0">
            <a:noFill/>
          </a:ln>
        </p:spPr>
      </p:pic>
      <p:sp>
        <p:nvSpPr>
          <p:cNvPr id="335" name="Obdélník 7"/>
          <p:cNvSpPr/>
          <p:nvPr/>
        </p:nvSpPr>
        <p:spPr>
          <a:xfrm>
            <a:off x="4284720" y="501336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Enchondrom_Femur_T1_sag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Enchondrom femuru 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37" name="Zástupný symbol pro obsah 3" descr="Soubor:Fibroma.jpg"/>
          <p:cNvPicPr/>
          <p:nvPr/>
        </p:nvPicPr>
        <p:blipFill>
          <a:blip r:embed="rId1"/>
          <a:stretch/>
        </p:blipFill>
        <p:spPr>
          <a:xfrm>
            <a:off x="611280" y="1844640"/>
            <a:ext cx="2652480" cy="1943280"/>
          </a:xfrm>
          <a:prstGeom prst="rect">
            <a:avLst/>
          </a:prstGeom>
          <a:ln w="0">
            <a:noFill/>
          </a:ln>
        </p:spPr>
      </p:pic>
      <p:sp>
        <p:nvSpPr>
          <p:cNvPr id="338" name="Obdélník 4"/>
          <p:cNvSpPr/>
          <p:nvPr/>
        </p:nvSpPr>
        <p:spPr>
          <a:xfrm>
            <a:off x="611280" y="4005360"/>
            <a:ext cx="25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Fibrom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brom v ústní dutin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Obrázek 5" descr="Soubor:Renal cell carcinoma, gross pathology of bisected kidney 20G0029 lores.jpg"/>
          <p:cNvPicPr/>
          <p:nvPr/>
        </p:nvPicPr>
        <p:blipFill>
          <a:blip r:embed="rId2"/>
          <a:stretch/>
        </p:blipFill>
        <p:spPr>
          <a:xfrm>
            <a:off x="4211640" y="1916280"/>
            <a:ext cx="3313080" cy="2970000"/>
          </a:xfrm>
          <a:prstGeom prst="rect">
            <a:avLst/>
          </a:prstGeom>
          <a:ln w="0">
            <a:noFill/>
          </a:ln>
        </p:spPr>
      </p:pic>
      <p:sp>
        <p:nvSpPr>
          <p:cNvPr id="340" name="Obdélník 6"/>
          <p:cNvSpPr/>
          <p:nvPr/>
        </p:nvSpPr>
        <p:spPr>
          <a:xfrm>
            <a:off x="4211640" y="5157720"/>
            <a:ext cx="4572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ttp://www.wikiskripta.eu/index.php/Soubor:Renal_cell_carcinoma,_gross_pathology_of_bisected_kidney_20G0029_lor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arcinom ledvi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nádo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Uveďte některé příklady nádorových onemocnění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BENIGNÍ, MALIGNÍ nádo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js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Funkč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orfologick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Biologické vlastnosti nádorů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NÁDORY - ÚVOD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efinice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 = tumor = novotvar = neoplazma = blast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cs.wikipedia.org/wiki/N%C3%A1d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N%C3%A1d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e to soubor abnormálních buněk, který roste a chová se poměrně samostatně i když původní příčina jeho vzniku již nepůsobí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lastnosti nádorů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utonom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orfologická odlišn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Funkční odlišn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Biologická odlišn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d ostatních tkání organism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Morfologická odlišnost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větš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měna tvaru (výrůstky, hrboly, boule, uzl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měna barvy tkán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měna tuhost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 různé míře napodobuje tkáň, ze které je vytvoř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tváří si vlastní cévní zásob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Funkční odlišnost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 může být funkčně bezvýznamn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ůže způsobit obstrukc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ůže poškodit krvetvorb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y ze žlázových epitelů mohou neřízeně produkovat hormon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Toxick%C3%BD_aden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 může tlakem poškozovat okolní tkán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Biologická odlišnost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dorové buňky mají větší schopnost se množ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sou životaschopnější, déle žijíc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sou odolnějš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sou v různé míře nezralé / nediferencovan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ež buňky funkčních zdravých tká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Klasifikace nádorů: BENIGNÍ NÁDORY: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Benigní =nezhoubn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ádor roste expanzivně (tj. lokálně, oddělený od okolí pouzdrem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- ostrá hranice mezi nádorem a okolní tká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 operaci většinou nerecidivuj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etvoří metastáz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ětšinou malá rychlost růst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evzniká nádorová kachex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17:16:25Z</dcterms:created>
  <dc:creator>Veronika</dc:creator>
  <dc:description/>
  <dc:language>en-US</dc:language>
  <cp:lastModifiedBy>Chalupna</cp:lastModifiedBy>
  <dcterms:modified xsi:type="dcterms:W3CDTF">2014-03-31T21:05:45Z</dcterms:modified>
  <cp:revision>14</cp:revision>
  <dc:subject/>
  <dc:title>Snímek 1</dc:title>
</cp:coreProperties>
</file>